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6D4-69A9-4F03-AB68-7F494916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7D3-24D6-42CB-92F9-64340016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B60-AFEC-4D08-A19D-244FB80D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43A-2549-4005-9493-55BB5384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5E19-2F6E-4918-920A-030755C5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3232-EC76-44A1-B7A1-13FBA4D3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EDC0-9418-4F4C-A645-52A5DCCC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612A-1E3C-4133-997A-BEB97E4E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36E1-10F6-4315-96B0-F2533AF5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29BC-5E41-444F-AA70-448BA7E6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68EB-0D29-4596-9A79-5E1E0288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BFA-858B-40A5-905D-9C393DA4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6068-AE16-436F-94F4-6129780C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4E16-9EBD-43CD-A4A0-F343F4A0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77E8-095C-40AF-AAF8-DCBC06D1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DAE2-A0F2-4C3B-9264-65DC7964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C635-5EC0-4B69-B58A-B825F4CB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ABD-3BCF-47DC-B30E-D1BD4BFF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C88B-C135-4105-A069-BCF3924D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881-54CA-4CC2-BE70-6DB3CB23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059-B9CA-439C-A187-AEAEA17C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D249-541E-44AE-9D77-81E3F97D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935-2599-42B8-B160-DD3026C0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27E-B59B-4A20-88E3-B1836E43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D6C2-5F4B-4213-B424-A3E0796DBBB7}" type="datetime">
              <a:rPr b="0" lang="en-US" sz="12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1909-3B62-402D-8A35-EF928D0D2E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3B0E-D283-4BAA-AC03-B61DD933EF4E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0CA5-9160-4B08-8F9E-1FB5C58219A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im:  What do we think the Byzantine Empire was all about? 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L43Unit5intro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This unit is called : Expanding Zones of Encounter and Exchang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w:  Based on these images--What do you think the Byzantine Empire might have been lik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Content Placeholder 6" descr="justinian.jpg"/>
          <p:cNvPicPr/>
          <p:nvPr/>
        </p:nvPicPr>
        <p:blipFill>
          <a:blip r:embed="rId1"/>
          <a:stretch/>
        </p:blipFill>
        <p:spPr>
          <a:xfrm>
            <a:off x="1143000" y="3919680"/>
            <a:ext cx="1981080" cy="2668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155" name="Content Placeholder 4" descr="hagia-sophia.jpg"/>
          <p:cNvPicPr/>
          <p:nvPr/>
        </p:nvPicPr>
        <p:blipFill>
          <a:blip r:embed="rId2"/>
          <a:stretch/>
        </p:blipFill>
        <p:spPr>
          <a:xfrm>
            <a:off x="4419720" y="3981600"/>
            <a:ext cx="3429000" cy="28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0520" y="2282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eg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er Justinian, the Byzantine Empire reached its height in culture and prospe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t the Hagia Soph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est architectural achie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gnificent use of arches to support huge domed roo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 a church, then a mosque – now a muse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Content Placeholder 4" descr="JustinianIIcrossgift.jpg"/>
          <p:cNvPicPr/>
          <p:nvPr/>
        </p:nvPicPr>
        <p:blipFill>
          <a:blip r:embed="rId1"/>
          <a:stretch/>
        </p:blipFill>
        <p:spPr>
          <a:xfrm>
            <a:off x="4881600" y="1600200"/>
            <a:ext cx="1562040" cy="198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Justinian - 6thcCiborium4SantiCoronati.jpg"/>
          <p:cNvPicPr/>
          <p:nvPr/>
        </p:nvPicPr>
        <p:blipFill>
          <a:blip r:embed="rId2"/>
          <a:stretch/>
        </p:blipFill>
        <p:spPr>
          <a:xfrm>
            <a:off x="6248520" y="2895480"/>
            <a:ext cx="2333520" cy="1954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Justinian - 6thHerculesPlate.jpg"/>
          <p:cNvPicPr/>
          <p:nvPr/>
        </p:nvPicPr>
        <p:blipFill>
          <a:blip r:embed="rId3"/>
          <a:stretch/>
        </p:blipFill>
        <p:spPr>
          <a:xfrm>
            <a:off x="4952880" y="4419720"/>
            <a:ext cx="1683000" cy="1677960"/>
          </a:xfrm>
          <a:prstGeom prst="rect">
            <a:avLst/>
          </a:prstGeom>
          <a:ln w="0">
            <a:noFill/>
          </a:ln>
        </p:spPr>
      </p:pic>
      <p:pic>
        <p:nvPicPr>
          <p:cNvPr id="180" name="Content Placeholder 4" descr="hagia-sophia.jpg"/>
          <p:cNvPicPr/>
          <p:nvPr/>
        </p:nvPicPr>
        <p:blipFill>
          <a:blip r:embed="rId4"/>
          <a:stretch/>
        </p:blipFill>
        <p:spPr>
          <a:xfrm>
            <a:off x="6095880" y="380880"/>
            <a:ext cx="2667240" cy="2237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Aim:  How did Great Schism effect religious and Byzantine history? 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L45Byzantinewrapup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w:  Copy and Answer the following Regents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8064360" cy="3289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the Byzantine Empire all about?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alyze the documents together as a group.  Organize the new information you gather from the documents about the Byzantine empire in either a chart or bulleted outline that contains the following categories: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ahoma"/>
              </a:rPr>
              <a:t>Government, Religion, Culture, Economics, Legac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762120"/>
          <a:ext cx="9144000" cy="5654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o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ig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ul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ga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a500"/>
                    </a:solidFill>
                  </a:tcPr>
                </a:tc>
              </a:tr>
              <a:tr h="51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Freedoms for citiz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Monarchy – Emperor Justinia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Justinian wrote their legal co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They have a justice syste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(doc2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-- main religion is Christianit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-- new style of Christianity(4)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-Orthodox !!! (6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- Strict rules on worship and follow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Religion is very importa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Build fancy buildings (churches) 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Different people spoke dif languages  (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Laws on marriage/ divor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onstantinople = center of trade/ capital city (doc1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onquered land to increase their resources and money (3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ontrol trade all around the Med. Sea (3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wealthy (5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- Influenced the Russian religion(4)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</a:tbl>
          </a:graphicData>
        </a:graphic>
      </p:graphicFrame>
      <p:sp>
        <p:nvSpPr>
          <p:cNvPr id="159" name="TextBox 4"/>
          <p:cNvSpPr/>
          <p:nvPr/>
        </p:nvSpPr>
        <p:spPr>
          <a:xfrm>
            <a:off x="2085480" y="228600"/>
            <a:ext cx="49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zantine Empire– History as a mystery a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w:  Copy and answer the following Regents practice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Aim:  How did Emperor Justinian change the Byzantine Empire? L44 Justinia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31996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.  Emperor Justinia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) Basic Inf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ustinian ruled from 527-56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mperor had all the laws of ancient Rome collected, revised, and organiz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Content Placeholder 6" descr="justinian.jpg"/>
          <p:cNvPicPr/>
          <p:nvPr/>
        </p:nvPicPr>
        <p:blipFill>
          <a:blip r:embed="rId1"/>
          <a:stretch/>
        </p:blipFill>
        <p:spPr>
          <a:xfrm>
            <a:off x="6172200" y="1295280"/>
            <a:ext cx="2066760" cy="278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6" name="Content Placeholder 5" descr="Justianian Code.jpg"/>
          <p:cNvPicPr/>
          <p:nvPr/>
        </p:nvPicPr>
        <p:blipFill>
          <a:blip r:embed="rId2"/>
          <a:stretch/>
        </p:blipFill>
        <p:spPr>
          <a:xfrm>
            <a:off x="4191120" y="4419720"/>
            <a:ext cx="3247920" cy="243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code became the  basis for Western European law in 1100’s A.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day as basis for international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Content Placeholder 4" descr="Justinian Code 2.jpg"/>
          <p:cNvPicPr/>
          <p:nvPr/>
        </p:nvPicPr>
        <p:blipFill>
          <a:blip r:embed="rId1"/>
          <a:stretch/>
        </p:blipFill>
        <p:spPr>
          <a:xfrm>
            <a:off x="5060880" y="1808280"/>
            <a:ext cx="3213000" cy="4114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) Military go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termined to revive grandeur of ancient Ro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Content Placeholder 4" descr="Justinian 2.jpg"/>
          <p:cNvPicPr/>
          <p:nvPr/>
        </p:nvPicPr>
        <p:blipFill>
          <a:blip r:embed="rId1"/>
          <a:stretch/>
        </p:blipFill>
        <p:spPr>
          <a:xfrm>
            <a:off x="5257800" y="1828800"/>
            <a:ext cx="3000240" cy="4530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Content Placeholder 4" descr="Byzantine Empire 565 AD.jpg"/>
          <p:cNvPicPr/>
          <p:nvPr/>
        </p:nvPicPr>
        <p:blipFill>
          <a:blip r:embed="rId1"/>
          <a:stretch/>
        </p:blipFill>
        <p:spPr>
          <a:xfrm>
            <a:off x="2057400" y="304920"/>
            <a:ext cx="5100480" cy="3371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3" name=""/>
          <p:cNvSpPr txBox="1"/>
          <p:nvPr/>
        </p:nvSpPr>
        <p:spPr>
          <a:xfrm>
            <a:off x="457200" y="3352320"/>
            <a:ext cx="784872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conquered North Africa, Italy, and Southern Spa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stablished a trade nation around the Med. Se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Content Placeholder 4" descr="Byzantine HorseRace.jpg"/>
          <p:cNvPicPr/>
          <p:nvPr/>
        </p:nvPicPr>
        <p:blipFill>
          <a:blip r:embed="rId1"/>
          <a:stretch/>
        </p:blipFill>
        <p:spPr>
          <a:xfrm>
            <a:off x="304920" y="1143000"/>
            <a:ext cx="4038480" cy="335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5" name=""/>
          <p:cNvSpPr txBox="1"/>
          <p:nvPr/>
        </p:nvSpPr>
        <p:spPr>
          <a:xfrm>
            <a:off x="4419360" y="533520"/>
            <a:ext cx="426708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Problems ar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satisfaction arose with Justinian’s government mini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iot-racing factions united and rioted, demanding removal of unpopular offic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ed to overthrow Justin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awesome wife– Empress Theodora saves the day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2:48:05Z</dcterms:created>
  <dc:creator>Greg</dc:creator>
  <dc:description/>
  <dc:language>en-US</dc:language>
  <cp:lastModifiedBy>NYCDOE</cp:lastModifiedBy>
  <dcterms:modified xsi:type="dcterms:W3CDTF">2013-01-07T12:26:44Z</dcterms:modified>
  <cp:revision>21</cp:revision>
  <dc:subject/>
  <dc:title>Justinian: The Good and the Bad</dc:title>
</cp:coreProperties>
</file>